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61A-BF54-4F2F-90B7-29138243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189-6BF1-45C2-98E8-CBA09C56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3A4DE-EC15-460D-B647-2E0B4875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9A083-55F2-43E5-B6B5-FF135800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5829B-271E-4F17-A5FE-BBF50B4F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79C97-474B-4FA5-84AA-FAE6905A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A5C1F-07BE-4891-B13E-6F135335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FF408-8921-46CA-B946-C9967F5A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27418-52E1-496F-8E43-10782AA2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F6394-7DE9-4923-AFDB-9594FB24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D836C-1DC7-4654-9FC4-97315CA4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FD27A-8353-44C0-80EC-5A9A2740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C42-F193-4F85-ABDC-9FD4F6A5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0F503-588E-4D8B-A738-95DE518E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C8D00-6FA4-4DDC-BE4A-5A32178B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A23C8-2BF8-4361-BD87-CAB59D34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5C474-BB58-4201-B26E-2C35E1EC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B766B-0085-409F-962B-DA32FEF9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F9A17-CE09-4F38-8B14-E3F59834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B02CD-D5A9-44E5-94EB-434112D2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C48BE-AD09-4A5E-94A0-81819960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88A74-5BEC-4B94-8C0C-0B942D39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B77F3-55A5-4E84-B9E6-3B44CBDA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19FA-1C7E-4EE1-8403-D8219C7E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EBFC8-8CE3-420F-BC4E-C8193277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E0064-1560-4C2D-A3CD-57A6AB1A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0C6E0-76DB-4A69-8016-90FAC094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4E89F-80F3-41C9-B82D-60F6543A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D819D-EB01-45B0-A8BA-49439829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1C766-5506-4F1B-9E97-9388CAB5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7BBD2-7BDD-471D-A97B-752C6004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4C562-8EFB-41DE-A4C2-7AFCCF11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7D273-7E05-414C-B7B7-4063A950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CA35D-ED9C-4994-85AD-1ED86E82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7CC6-E1E5-4D2C-828D-3A7880A4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5F7C6-AD70-4052-A019-765DC0A8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5FD6A-184B-4E77-AE59-6448E09B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BFB1C-BDA6-46FF-BDB9-29CEDCDD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328C7-5932-452B-B9CB-1F67852D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4904E-5060-4272-A168-5B831E3B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D1BDA-5934-4419-A466-5F64B804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CE26D-8EC1-4C19-9A13-CD0ED29E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10402-D19D-4E94-AFC3-F2423C54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6FA5D-3C78-4733-A569-8092E5FA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33D6A-EEAC-4D10-8CC4-90489582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94A7-9D03-45F4-A57F-14363DCA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21F14-4160-4A33-A192-9F039A4D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5AEF4-1D2E-4848-A7DC-FAF9B7E0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A9757-F309-428A-BCAC-21FFB93D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17B1E-AF0B-4CD2-B649-5FCD9B72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497AC-58E9-4EED-9D6A-67BB574E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267541-CAF3-46D9-A6F7-4F4C508A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D3512C-BBEA-4F5D-83D7-48123DFF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48036F-A58A-4BF4-AF7C-277C219B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B54FF4-3E09-46D3-AD8E-637CB201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B9CEA-7781-4F49-AB9F-C93AA670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E86A-0DD3-4C9E-8ADB-F51193E5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E6EBA-487F-4BDC-B321-14253184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BEB0C-C7AE-4DAF-A0ED-CA804CD4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8DA76-DB88-4C3E-AF7C-E00640DC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C000CF-C1AD-4F92-84AD-432F6A22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50CCD2-6BE7-4366-8FD1-87B5315C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EF733-D673-43C1-8977-FCD9CEF9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44020-18B6-4771-AC71-F93EAD22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2B7C0D-2479-4310-BD70-C8F4F05F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E061BB-78F3-4560-81B6-599F7D3B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6D2A7B-6EEC-4678-88E6-B8C9C39C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4B1F-F94A-45B3-B818-15D180C8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31779-EACF-4E29-B475-17DF8182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F18001-A92A-4C9A-8F03-4231B7A1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38872-F362-4E8D-A24B-918C41D3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08B18F-21D5-481D-9A6A-9D3388B5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3382BD-230E-4801-BA76-AA59FFCE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A5F30-EFB0-487D-A47A-FED4670C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D278F8-158A-465F-8DD6-44433BC1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974835-12B3-4813-92BF-93984B7D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1C1380-297E-416B-A8B5-9508F5B7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DC54DA-A2D1-4C0E-A87A-8538A46D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E0D3-574E-4828-A3C2-E6B9E964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A2ED48-109B-4E19-BFD8-4B4478C3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3448E5-1348-4641-A28E-65749D10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23423E-4E81-4011-9C9F-DA5D6485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B21992-9D1E-4AD5-83E7-6D26E515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49E8C3-37E0-4E8D-8793-781EEA08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B3A005-CC42-4A1A-9D4C-57DB923C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971C16-4BDF-412F-AABE-DFD0E1EF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CA87AC-AFB6-4DCA-8DC1-EA0C7F33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8EFF54-DA30-486B-BFD5-844DC383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AB98DF-AB4E-4522-92F2-07D7CACE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4547-B55D-4B66-A5A5-709CD018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69B558-DC7A-46A3-A2FE-350B5A02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D15F21-C2B6-4A28-B284-D6EDA811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5369B7-8362-4633-86E7-0B487ADB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77482F-8B6D-4B12-BBBE-D0D1A411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5DAC6A-B64B-4D6B-A9B7-94F0CB7C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F8A537-72F1-40CF-AACD-696C6D79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88075E-457D-427F-856C-1ECEA4CF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4A6AE5-7A91-4BD9-A36E-A38AAD8D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7751B2-33A9-4342-A0F3-9046BEAB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187D35-0D31-4E4B-910C-30E06D1C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4B96-3673-4D7B-8978-71F7EA0E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A53827-904F-4FDF-A190-C66329D5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6554F3-5CB2-4BFE-B1B6-CF4A2622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3F71FB-5AF6-439A-BE90-6C022736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14EBDF-1A16-4679-9DFD-25468A9F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AF7BC1-9ECE-4C9F-B37F-D4620670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9F3308-E613-4D60-84A2-436EFA63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F92208-B896-4707-8E7E-E3D3299D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492188-C838-4C12-A71F-BA9FFE86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FEA1F2-8F91-4234-9359-9480C322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F31FED-83AB-4279-83D5-A5A1A930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926-D8D5-4843-BE7E-489578A8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4C96-F880-44E2-AD79-FDB90473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8002FA-1F16-41F0-92A8-78697BDB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C650B1-FA2A-413F-BC74-4D8AC9D2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6DE2E3-C8E1-4758-B8DD-076D82F0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A0A47B-B5C2-4184-86AC-B869A639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597262-0597-438E-B220-6AD7CC76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05D009-FD57-41B6-BF5C-DCF60FE7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15273E-21EF-4D0C-8E64-9027C71D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496C99-73C1-45A0-ADD9-BA9E30CF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EB32A6-FDB5-48B1-B2A0-4C0CC750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E9C06-6BF5-40E6-AF78-43CCEDA8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3C25-4D46-4425-B280-AB738F81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F8978C-D5F6-4E70-A7F8-52C2574B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14D96F-8BCE-4ABF-B5A0-1315D7B9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79511D-2C5E-44CE-9942-B10EAE87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F3E894-1904-4BC5-B4A9-27DC46FF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C388AA-8B2A-4AE2-BFD3-7856A503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4D1D98-9CC6-4CAB-9232-1F54302D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5C5606-D85F-4BBB-BD98-089CD9C4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92B532-4627-4E70-889B-255DBAFC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C35921-62D7-4AB9-AFF6-E2FE12A6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FE38E1-6764-4207-8EF3-6DC19016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ABB2-CCA9-4202-88CA-BF575C19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F223D6-B29E-44ED-ADF2-C779B430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B7E9FE-BD87-4D9B-994B-DCA9E084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49C7C8-CDCB-46AE-8E27-852AD961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42B0EC-F2DE-454B-9F3E-65D75DDD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6CF6B3-74A9-4852-9D3B-5D79BE6D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930C43-6673-48E2-AF69-DB4EBFFE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3E437E-907F-4C52-B5F0-DE959444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FD6E78-5261-40C6-8D28-112A3212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18FFAF-ADAA-4855-81AD-C6CE7E42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791E87-6FDB-4C4B-BFF5-B29BA522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4115-77B8-4ED0-9E05-E26CA03B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FD4313-F233-4510-948A-2C4F14FE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4C8928-5CFB-4650-BE03-38608E51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A27B0C-6AF1-46D9-8DD1-6433FA52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9D7C0F-5EA1-4AF7-A047-37898D6E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F10D93-0AAC-4A3F-B715-D42534ED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471625-DA50-43EE-A092-9A33E5E0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6B6905-6FE5-4EA6-B3FC-08937747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42D8AC-E9A8-45F8-9A01-07358B65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C6EF97-CDE6-4453-A3C2-F4B81671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077BBB-D737-4297-B52A-DDFC45F9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069C-E34B-4057-B57C-736C0BF6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9D3F4C-53D1-4718-BC5D-BEFD9843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158551-6AAE-4A38-9995-EF905BF4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C1442C-D797-445E-9E05-DCF1E465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860480-59EB-4091-A6A7-F27A2035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5C21C6-01AB-4CA0-8AFE-01385042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8B6B96-939D-4EA2-9137-9D9C59A6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B011E9-D1FA-4DBD-8E30-8F356C1D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E73815-76D4-4125-A932-5D089524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83AEF0-EAC3-43E9-8B68-F22E724C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69B0E4-9404-489C-97C9-ACD7E698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E7693-2AC4-4708-9EB9-678147DA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05F3E2-AF90-42E4-B511-5395690F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45F76F-1627-4889-A3FB-F3FB80B2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CCD84D-9742-4C5D-B8FD-9ABCF09B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A912F-E998-4F9E-B185-AFF65992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7B19D-FE63-4D54-8AE6-AD4407D4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BD4B0-E473-4EDD-B260-3C54BA33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97DB2-AD59-4AF7-92E9-8940E323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EA7-CCB1-44B3-89E2-02DD5C43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C1B11-DB2D-4D74-A138-94CCA9F7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55B0F-B8E2-4E5C-A8EF-4918E8F4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BD7CD-BF10-42B3-A08A-89E36534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040CD-D0D2-465B-BDE2-ABB7BB3C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8C04B-AEA7-4115-9C26-9F7D181B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7BC7B-CC10-484A-B188-A8E9A93C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00708-B8DE-4181-A20B-AB3E2635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851E6-3E16-4E91-97A4-DE286D53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9800A-5E4C-4FE5-9700-F4489E28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60519-8B23-4298-9BFD-A989C8FE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F403-72A1-45C2-A6F1-377DCFAF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C78CA-5954-478D-8284-C09D6918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0A01A-A265-485D-83B4-84D574C9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F3EB6-85B4-4812-A82C-73906B36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18B67-7CB7-419E-806A-674C287D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BCE79-BEAD-4C53-A0FD-7BCDA7D7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5B705-A261-4286-BB1F-0CA62B91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04530-0560-4330-93CA-F68CA5C4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CED41-5D65-4DE1-9576-C0FB6925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36C3D-8E9C-428E-9B03-EA30BE2D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B0C4A-C60E-4090-8D75-93FB50BD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009-5AAB-4645-AF49-7B609861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88833-C858-4154-B4B7-C35D797B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2557D-4AF4-4E17-ACD6-170D1C38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939E0-8CBF-4F32-BC73-CAA1A6B4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C16AA-1F6A-4F9A-8FA4-EDCDD46E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D8823-7A5C-4A5A-9000-3ABE2FED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DD192-2C50-4B73-84DB-01F79D3E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5E87B-359D-4EE9-9A1D-D3D454D0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40C94-FEE6-488F-B311-6788D346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02302-0F46-43D5-A3A1-1DCE3205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E2665-6247-4A97-8CFE-E2F5BB45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3D6C-D1A4-411D-BE11-8785B2F5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33757-260D-4060-895F-D004D172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BB725-B198-4E0D-B731-475B6C6F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15779-0EBB-443C-9166-DFD70AA2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3B0C2-51CB-4610-872B-9CBAB82C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493B2-CAF9-4FF0-9B2C-257F1E25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16274-4887-4AD3-A3AF-0C00D01E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B8EB0-DDDC-4509-BD3A-F2FBAD35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ACDBF-C64C-4997-BB5E-8639B2AE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CD766-5D81-4CF6-9D97-9B1D5E42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6B60E-8078-4CE5-BEC9-90CB9E98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4BB-62AA-4440-B5EF-9647F1A4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1C95B-3651-4247-B551-BE3D44EF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E425E-D176-439F-8B40-65787C1E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09CA4-E68B-4826-A2EE-DC303ED4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34E83-6D6C-4F33-91BA-2942A7E4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4D1F4-2B34-43A9-978C-EF6C0380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DA95A-6A6B-42F7-8013-0A3CE1A8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A297E-04AD-4CA7-9666-70C7DD1C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8E565-6A1B-4F79-BB6C-1836E20B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308E3-4754-43C5-8123-FFF924A5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012A5-B2CD-4109-9DD2-C5EA0905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17D-0BAF-4688-BFD1-7508FE73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23769-C662-44F4-897C-EEB7D623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F2E1B-C08B-47F8-BFE3-A6BF1BCB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8EA83-B515-4DAE-BA4E-BCCE4598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7031D-2C89-40D0-A819-CA5BE1FF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E3ECF-6B5E-404B-9670-181A8AEA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34ABE-479B-424C-82D2-9AFCCFE7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16403-DDB1-45F2-9587-6DF0406E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042BA-4E61-44F3-9BD5-19256884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EA35E-6786-4B5A-8BF0-BD26E0CF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A8EF9-611F-4C32-BFAE-361A43D3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B12-10CB-45DB-9EA9-98379BB6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D72BC-6438-45F2-A61F-5B531A36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1717A-2137-4237-891F-BD3DF1A5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7039E-A384-4E06-9FD8-DAAE4834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740DF-3249-4B21-96DC-99A1BE71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BA6BA-077F-4530-BB5C-66525E04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15ED5-DABB-43E4-98EB-2E9A321F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38948-D6F7-4549-AD67-A0CC20BC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2F964-A0DD-4D52-990E-AA64B88E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CF2E2-C396-4ED9-A4A4-05AE5E33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BD8FE-57AF-49E3-8C49-3E39F607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9C2F-9372-405E-A45A-672BE710E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F121-7248-4D15-B115-307AE77C5D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E9B8-D962-4EA8-8649-0054AAEAE5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1050-75E5-43A2-987E-B2BBB0C149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839F-ACF5-4E55-8495-1C8774E59C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4F6C-6696-4012-B2ED-712598EF4F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0592-D3F9-46CF-AC1F-ED0C257993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A7F4-756E-4FA8-B887-2617EA6CEB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5272-FD08-43CE-AED6-BAEAA02BE1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0F01-B998-48CB-A3B5-E51C356F6B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DC84-DFCF-4E76-9EE1-BF7E9D59C5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4F4A-01B3-4F0F-ABE4-30E99708B5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7F80-5D98-437C-A0F9-C955FA2147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0909-B273-4E87-8FFB-4A3FECDE84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0D01-4206-4DD9-9D3B-650BE43C37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6435-000E-4F1F-979A-08929CA5FA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BFA7-35F5-43BD-AC16-552301CB10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6121-7A2A-4622-A1CA-C6132EA559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525F-71CE-4C20-8577-3F236D7E38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AE73-7D2A-41E4-9080-D09A57A705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A857-659D-4A82-84E9-8F5E3DD94F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194B-C61B-4C37-8878-8256ADDE9E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09AD-7804-4F6C-AB79-5E5D4DD02C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12BB-3085-4A54-B538-BD5047D3D4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3787-ED34-4BF5-8225-0993AC7A5F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C9DA-67AF-437F-BEFC-29A5F73BC8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9F76-FD6E-4CEC-8582-E903ABC747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0FAF-0ACD-4945-AAEB-C22A4F8DD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3857-BFBA-413C-AB9A-2AD72E78D5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942E-4863-44B2-97F1-22C9C131C8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E819-4995-4431-925E-6790B61DBE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DBE1-026E-4980-8F3B-D4D2461D0F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F1FA-8B98-49D6-8989-043EEC17C7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0E24-F54D-4500-A9A8-5A29FDB05A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6E28-F50E-42D9-AD0D-C65F9A4780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AD94-1726-4DF2-BDB7-1921FBA090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0184-F220-4201-B7C9-CA00BE65FB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A73F-A335-42DE-8E5F-E3AEF84D21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DFA8-E9C4-431E-B0B3-330B99FF69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3509-4619-411B-914E-CF3391E1A0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2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1023840" y="2624040"/>
            <a:ext cx="70963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Picture 1" descr=""/>
          <p:cNvPicPr/>
          <p:nvPr/>
        </p:nvPicPr>
        <p:blipFill>
          <a:blip r:embed="rId1"/>
          <a:stretch/>
        </p:blipFill>
        <p:spPr>
          <a:xfrm>
            <a:off x="642960" y="747720"/>
            <a:ext cx="7886520" cy="603900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2"/>
          <a:stretch/>
        </p:blipFill>
        <p:spPr>
          <a:xfrm>
            <a:off x="285840" y="785880"/>
            <a:ext cx="5429160" cy="39852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3"/>
          <a:stretch/>
        </p:blipFill>
        <p:spPr>
          <a:xfrm>
            <a:off x="285840" y="1285920"/>
            <a:ext cx="5429160" cy="3985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4"/>
          <a:stretch/>
        </p:blipFill>
        <p:spPr>
          <a:xfrm>
            <a:off x="285840" y="1765440"/>
            <a:ext cx="5429160" cy="3981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5"/>
          <a:stretch/>
        </p:blipFill>
        <p:spPr>
          <a:xfrm>
            <a:off x="285840" y="2233440"/>
            <a:ext cx="5429160" cy="3985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6"/>
          <a:stretch/>
        </p:blipFill>
        <p:spPr>
          <a:xfrm>
            <a:off x="285840" y="2797200"/>
            <a:ext cx="8786880" cy="71280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7"/>
          <a:stretch/>
        </p:blipFill>
        <p:spPr>
          <a:xfrm>
            <a:off x="285840" y="362268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8"/>
          <a:stretch/>
        </p:blipFill>
        <p:spPr>
          <a:xfrm>
            <a:off x="285840" y="4051440"/>
            <a:ext cx="8786880" cy="3981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9"/>
          <a:stretch/>
        </p:blipFill>
        <p:spPr>
          <a:xfrm>
            <a:off x="285840" y="4500720"/>
            <a:ext cx="8786880" cy="39816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10"/>
          <a:stretch/>
        </p:blipFill>
        <p:spPr>
          <a:xfrm>
            <a:off x="285840" y="497988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11"/>
          <a:stretch/>
        </p:blipFill>
        <p:spPr>
          <a:xfrm>
            <a:off x="285840" y="5560920"/>
            <a:ext cx="8786880" cy="71460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4" descr=""/>
          <p:cNvPicPr/>
          <p:nvPr/>
        </p:nvPicPr>
        <p:blipFill>
          <a:blip r:embed="rId12"/>
          <a:stretch/>
        </p:blipFill>
        <p:spPr>
          <a:xfrm>
            <a:off x="285840" y="6337440"/>
            <a:ext cx="8786880" cy="39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Picture 1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382240" cy="529596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2" descr=""/>
          <p:cNvPicPr/>
          <p:nvPr/>
        </p:nvPicPr>
        <p:blipFill>
          <a:blip r:embed="rId2"/>
          <a:stretch/>
        </p:blipFill>
        <p:spPr>
          <a:xfrm>
            <a:off x="6215040" y="3857760"/>
            <a:ext cx="2505240" cy="228600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3"/>
          <a:stretch/>
        </p:blipFill>
        <p:spPr>
          <a:xfrm>
            <a:off x="285840" y="3898800"/>
            <a:ext cx="5857920" cy="39852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4"/>
          <a:stretch/>
        </p:blipFill>
        <p:spPr>
          <a:xfrm>
            <a:off x="285840" y="4367160"/>
            <a:ext cx="5857920" cy="39852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4" descr=""/>
          <p:cNvPicPr/>
          <p:nvPr/>
        </p:nvPicPr>
        <p:blipFill>
          <a:blip r:embed="rId5"/>
          <a:stretch/>
        </p:blipFill>
        <p:spPr>
          <a:xfrm>
            <a:off x="285840" y="4827600"/>
            <a:ext cx="5857920" cy="3985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4" descr=""/>
          <p:cNvPicPr/>
          <p:nvPr/>
        </p:nvPicPr>
        <p:blipFill>
          <a:blip r:embed="rId6"/>
          <a:stretch/>
        </p:blipFill>
        <p:spPr>
          <a:xfrm>
            <a:off x="285840" y="5316480"/>
            <a:ext cx="5857920" cy="3985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"/>
          <p:cNvPicPr/>
          <p:nvPr/>
        </p:nvPicPr>
        <p:blipFill>
          <a:blip r:embed="rId7"/>
          <a:stretch/>
        </p:blipFill>
        <p:spPr>
          <a:xfrm>
            <a:off x="285840" y="5756400"/>
            <a:ext cx="5857920" cy="39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2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Picture 1" descr=""/>
          <p:cNvPicPr/>
          <p:nvPr/>
        </p:nvPicPr>
        <p:blipFill>
          <a:blip r:embed="rId1"/>
          <a:stretch/>
        </p:blipFill>
        <p:spPr>
          <a:xfrm>
            <a:off x="928800" y="928800"/>
            <a:ext cx="7267320" cy="409572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4" descr=""/>
          <p:cNvPicPr/>
          <p:nvPr/>
        </p:nvPicPr>
        <p:blipFill>
          <a:blip r:embed="rId2"/>
          <a:stretch/>
        </p:blipFill>
        <p:spPr>
          <a:xfrm>
            <a:off x="285840" y="917640"/>
            <a:ext cx="8786880" cy="69048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4" descr=""/>
          <p:cNvPicPr/>
          <p:nvPr/>
        </p:nvPicPr>
        <p:blipFill>
          <a:blip r:embed="rId3"/>
          <a:stretch/>
        </p:blipFill>
        <p:spPr>
          <a:xfrm>
            <a:off x="285840" y="172548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4" descr=""/>
          <p:cNvPicPr/>
          <p:nvPr/>
        </p:nvPicPr>
        <p:blipFill>
          <a:blip r:embed="rId4"/>
          <a:stretch/>
        </p:blipFill>
        <p:spPr>
          <a:xfrm>
            <a:off x="285840" y="225576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4" descr=""/>
          <p:cNvPicPr/>
          <p:nvPr/>
        </p:nvPicPr>
        <p:blipFill>
          <a:blip r:embed="rId5"/>
          <a:stretch/>
        </p:blipFill>
        <p:spPr>
          <a:xfrm>
            <a:off x="285840" y="278604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4" descr=""/>
          <p:cNvPicPr/>
          <p:nvPr/>
        </p:nvPicPr>
        <p:blipFill>
          <a:blip r:embed="rId6"/>
          <a:stretch/>
        </p:blipFill>
        <p:spPr>
          <a:xfrm>
            <a:off x="285840" y="3297240"/>
            <a:ext cx="8786880" cy="70344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4" descr=""/>
          <p:cNvPicPr/>
          <p:nvPr/>
        </p:nvPicPr>
        <p:blipFill>
          <a:blip r:embed="rId7"/>
          <a:stretch/>
        </p:blipFill>
        <p:spPr>
          <a:xfrm>
            <a:off x="285840" y="4151160"/>
            <a:ext cx="8786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1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Picture 1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8429760" cy="40863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2" descr=""/>
          <p:cNvPicPr/>
          <p:nvPr/>
        </p:nvPicPr>
        <p:blipFill>
          <a:blip r:embed="rId2"/>
          <a:stretch/>
        </p:blipFill>
        <p:spPr>
          <a:xfrm>
            <a:off x="1071720" y="4786200"/>
            <a:ext cx="5495760" cy="19908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4" descr=""/>
          <p:cNvPicPr/>
          <p:nvPr/>
        </p:nvPicPr>
        <p:blipFill>
          <a:blip r:embed="rId3"/>
          <a:stretch/>
        </p:blipFill>
        <p:spPr>
          <a:xfrm>
            <a:off x="285840" y="487692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"/>
          <p:cNvPicPr/>
          <p:nvPr/>
        </p:nvPicPr>
        <p:blipFill>
          <a:blip r:embed="rId4"/>
          <a:stretch/>
        </p:blipFill>
        <p:spPr>
          <a:xfrm>
            <a:off x="285840" y="5292720"/>
            <a:ext cx="8786880" cy="4986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" descr=""/>
          <p:cNvPicPr/>
          <p:nvPr/>
        </p:nvPicPr>
        <p:blipFill>
          <a:blip r:embed="rId5"/>
          <a:stretch/>
        </p:blipFill>
        <p:spPr>
          <a:xfrm>
            <a:off x="285840" y="586908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" descr=""/>
          <p:cNvPicPr/>
          <p:nvPr/>
        </p:nvPicPr>
        <p:blipFill>
          <a:blip r:embed="rId6"/>
          <a:stretch/>
        </p:blipFill>
        <p:spPr>
          <a:xfrm>
            <a:off x="285840" y="6337440"/>
            <a:ext cx="8786880" cy="39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Picture 1" descr=""/>
          <p:cNvPicPr/>
          <p:nvPr/>
        </p:nvPicPr>
        <p:blipFill>
          <a:blip r:embed="rId1"/>
          <a:stretch/>
        </p:blipFill>
        <p:spPr>
          <a:xfrm>
            <a:off x="642960" y="1271520"/>
            <a:ext cx="6019920" cy="37432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2" descr=""/>
          <p:cNvPicPr/>
          <p:nvPr/>
        </p:nvPicPr>
        <p:blipFill>
          <a:blip r:embed="rId2"/>
          <a:stretch/>
        </p:blipFill>
        <p:spPr>
          <a:xfrm>
            <a:off x="676440" y="5057640"/>
            <a:ext cx="7791120" cy="9432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3" descr=""/>
          <p:cNvPicPr/>
          <p:nvPr/>
        </p:nvPicPr>
        <p:blipFill>
          <a:blip r:embed="rId3"/>
          <a:stretch/>
        </p:blipFill>
        <p:spPr>
          <a:xfrm>
            <a:off x="6643800" y="2214720"/>
            <a:ext cx="2085840" cy="25146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4" descr=""/>
          <p:cNvPicPr/>
          <p:nvPr/>
        </p:nvPicPr>
        <p:blipFill>
          <a:blip r:embed="rId4"/>
          <a:stretch/>
        </p:blipFill>
        <p:spPr>
          <a:xfrm>
            <a:off x="285840" y="125424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4" descr=""/>
          <p:cNvPicPr/>
          <p:nvPr/>
        </p:nvPicPr>
        <p:blipFill>
          <a:blip r:embed="rId5"/>
          <a:stretch/>
        </p:blipFill>
        <p:spPr>
          <a:xfrm>
            <a:off x="285840" y="177480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4" descr=""/>
          <p:cNvPicPr/>
          <p:nvPr/>
        </p:nvPicPr>
        <p:blipFill>
          <a:blip r:embed="rId6"/>
          <a:stretch/>
        </p:blipFill>
        <p:spPr>
          <a:xfrm>
            <a:off x="285840" y="2214720"/>
            <a:ext cx="6294240" cy="39816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4" descr=""/>
          <p:cNvPicPr/>
          <p:nvPr/>
        </p:nvPicPr>
        <p:blipFill>
          <a:blip r:embed="rId7"/>
          <a:stretch/>
        </p:blipFill>
        <p:spPr>
          <a:xfrm>
            <a:off x="285840" y="2682720"/>
            <a:ext cx="6294240" cy="3985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4" descr=""/>
          <p:cNvPicPr/>
          <p:nvPr/>
        </p:nvPicPr>
        <p:blipFill>
          <a:blip r:embed="rId8"/>
          <a:stretch/>
        </p:blipFill>
        <p:spPr>
          <a:xfrm>
            <a:off x="285840" y="3143160"/>
            <a:ext cx="6294240" cy="398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4" descr=""/>
          <p:cNvPicPr/>
          <p:nvPr/>
        </p:nvPicPr>
        <p:blipFill>
          <a:blip r:embed="rId9"/>
          <a:stretch/>
        </p:blipFill>
        <p:spPr>
          <a:xfrm>
            <a:off x="285840" y="3611520"/>
            <a:ext cx="6294240" cy="398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4" descr=""/>
          <p:cNvPicPr/>
          <p:nvPr/>
        </p:nvPicPr>
        <p:blipFill>
          <a:blip r:embed="rId10"/>
          <a:stretch/>
        </p:blipFill>
        <p:spPr>
          <a:xfrm>
            <a:off x="285840" y="4030560"/>
            <a:ext cx="6294240" cy="398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4" descr=""/>
          <p:cNvPicPr/>
          <p:nvPr/>
        </p:nvPicPr>
        <p:blipFill>
          <a:blip r:embed="rId11"/>
          <a:stretch/>
        </p:blipFill>
        <p:spPr>
          <a:xfrm>
            <a:off x="285840" y="4530600"/>
            <a:ext cx="6294240" cy="3985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4" descr=""/>
          <p:cNvPicPr/>
          <p:nvPr/>
        </p:nvPicPr>
        <p:blipFill>
          <a:blip r:embed="rId12"/>
          <a:stretch/>
        </p:blipFill>
        <p:spPr>
          <a:xfrm>
            <a:off x="285840" y="505152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4" descr=""/>
          <p:cNvPicPr/>
          <p:nvPr/>
        </p:nvPicPr>
        <p:blipFill>
          <a:blip r:embed="rId13"/>
          <a:stretch/>
        </p:blipFill>
        <p:spPr>
          <a:xfrm>
            <a:off x="285840" y="5530680"/>
            <a:ext cx="878688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5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209520" y="714240"/>
            <a:ext cx="4148280" cy="6072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3" descr=""/>
          <p:cNvPicPr/>
          <p:nvPr/>
        </p:nvPicPr>
        <p:blipFill>
          <a:blip r:embed="rId2"/>
          <a:stretch/>
        </p:blipFill>
        <p:spPr>
          <a:xfrm>
            <a:off x="4772160" y="966960"/>
            <a:ext cx="4228920" cy="58197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5" descr=""/>
          <p:cNvPicPr/>
          <p:nvPr/>
        </p:nvPicPr>
        <p:blipFill>
          <a:blip r:embed="rId3"/>
          <a:stretch/>
        </p:blipFill>
        <p:spPr>
          <a:xfrm>
            <a:off x="484200" y="2527200"/>
            <a:ext cx="1060560" cy="3081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5" descr=""/>
          <p:cNvPicPr/>
          <p:nvPr/>
        </p:nvPicPr>
        <p:blipFill>
          <a:blip r:embed="rId4"/>
          <a:stretch/>
        </p:blipFill>
        <p:spPr>
          <a:xfrm>
            <a:off x="1943280" y="2527200"/>
            <a:ext cx="1515960" cy="3081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5" descr=""/>
          <p:cNvPicPr/>
          <p:nvPr/>
        </p:nvPicPr>
        <p:blipFill>
          <a:blip r:embed="rId5"/>
          <a:stretch/>
        </p:blipFill>
        <p:spPr>
          <a:xfrm>
            <a:off x="2544840" y="2860560"/>
            <a:ext cx="733320" cy="3081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5" descr=""/>
          <p:cNvPicPr/>
          <p:nvPr/>
        </p:nvPicPr>
        <p:blipFill>
          <a:blip r:embed="rId6"/>
          <a:stretch/>
        </p:blipFill>
        <p:spPr>
          <a:xfrm>
            <a:off x="755640" y="3193920"/>
            <a:ext cx="1962000" cy="3081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5" descr=""/>
          <p:cNvPicPr/>
          <p:nvPr/>
        </p:nvPicPr>
        <p:blipFill>
          <a:blip r:embed="rId7"/>
          <a:stretch/>
        </p:blipFill>
        <p:spPr>
          <a:xfrm>
            <a:off x="1550880" y="4181400"/>
            <a:ext cx="1008000" cy="3081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5" descr=""/>
          <p:cNvPicPr/>
          <p:nvPr/>
        </p:nvPicPr>
        <p:blipFill>
          <a:blip r:embed="rId8"/>
          <a:stretch/>
        </p:blipFill>
        <p:spPr>
          <a:xfrm>
            <a:off x="3200400" y="4181400"/>
            <a:ext cx="1308240" cy="3081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5" descr=""/>
          <p:cNvPicPr/>
          <p:nvPr/>
        </p:nvPicPr>
        <p:blipFill>
          <a:blip r:embed="rId9"/>
          <a:stretch/>
        </p:blipFill>
        <p:spPr>
          <a:xfrm>
            <a:off x="520560" y="4505400"/>
            <a:ext cx="733680" cy="3078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5" descr=""/>
          <p:cNvPicPr/>
          <p:nvPr/>
        </p:nvPicPr>
        <p:blipFill>
          <a:blip r:embed="rId10"/>
          <a:stretch/>
        </p:blipFill>
        <p:spPr>
          <a:xfrm>
            <a:off x="1689120" y="4838760"/>
            <a:ext cx="2668680" cy="3078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5" descr=""/>
          <p:cNvPicPr/>
          <p:nvPr/>
        </p:nvPicPr>
        <p:blipFill>
          <a:blip r:embed="rId11"/>
          <a:stretch/>
        </p:blipFill>
        <p:spPr>
          <a:xfrm>
            <a:off x="1209600" y="5492880"/>
            <a:ext cx="1644840" cy="3078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"/>
          <p:cNvPicPr/>
          <p:nvPr/>
        </p:nvPicPr>
        <p:blipFill>
          <a:blip r:embed="rId12"/>
          <a:stretch/>
        </p:blipFill>
        <p:spPr>
          <a:xfrm>
            <a:off x="6183360" y="2957400"/>
            <a:ext cx="2801880" cy="3081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"/>
          <p:cNvPicPr/>
          <p:nvPr/>
        </p:nvPicPr>
        <p:blipFill>
          <a:blip r:embed="rId13"/>
          <a:stretch/>
        </p:blipFill>
        <p:spPr>
          <a:xfrm>
            <a:off x="4732200" y="3298680"/>
            <a:ext cx="4253040" cy="3081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5" descr=""/>
          <p:cNvPicPr/>
          <p:nvPr/>
        </p:nvPicPr>
        <p:blipFill>
          <a:blip r:embed="rId14"/>
          <a:stretch/>
        </p:blipFill>
        <p:spPr>
          <a:xfrm>
            <a:off x="4643280" y="3633840"/>
            <a:ext cx="4253040" cy="3078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5" descr=""/>
          <p:cNvPicPr/>
          <p:nvPr/>
        </p:nvPicPr>
        <p:blipFill>
          <a:blip r:embed="rId15"/>
          <a:stretch/>
        </p:blipFill>
        <p:spPr>
          <a:xfrm>
            <a:off x="4627440" y="3921120"/>
            <a:ext cx="4253040" cy="1511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5" descr=""/>
          <p:cNvPicPr/>
          <p:nvPr/>
        </p:nvPicPr>
        <p:blipFill>
          <a:blip r:embed="rId16"/>
          <a:stretch/>
        </p:blipFill>
        <p:spPr>
          <a:xfrm>
            <a:off x="4627440" y="5435640"/>
            <a:ext cx="4253040" cy="3078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5" descr=""/>
          <p:cNvPicPr/>
          <p:nvPr/>
        </p:nvPicPr>
        <p:blipFill>
          <a:blip r:embed="rId17"/>
          <a:stretch/>
        </p:blipFill>
        <p:spPr>
          <a:xfrm>
            <a:off x="4754520" y="5786280"/>
            <a:ext cx="4253040" cy="3081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5" descr=""/>
          <p:cNvPicPr/>
          <p:nvPr/>
        </p:nvPicPr>
        <p:blipFill>
          <a:blip r:embed="rId18"/>
          <a:stretch/>
        </p:blipFill>
        <p:spPr>
          <a:xfrm>
            <a:off x="4665600" y="6127920"/>
            <a:ext cx="4253040" cy="3078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5" descr=""/>
          <p:cNvPicPr/>
          <p:nvPr/>
        </p:nvPicPr>
        <p:blipFill>
          <a:blip r:embed="rId19"/>
          <a:stretch/>
        </p:blipFill>
        <p:spPr>
          <a:xfrm>
            <a:off x="4792680" y="6478560"/>
            <a:ext cx="425304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2714760" y="1000080"/>
            <a:ext cx="4257720" cy="39909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5" descr=""/>
          <p:cNvPicPr/>
          <p:nvPr/>
        </p:nvPicPr>
        <p:blipFill>
          <a:blip r:embed="rId2"/>
          <a:stretch/>
        </p:blipFill>
        <p:spPr>
          <a:xfrm>
            <a:off x="2722680" y="946080"/>
            <a:ext cx="4252680" cy="3081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5" descr=""/>
          <p:cNvPicPr/>
          <p:nvPr/>
        </p:nvPicPr>
        <p:blipFill>
          <a:blip r:embed="rId3"/>
          <a:stretch/>
        </p:blipFill>
        <p:spPr>
          <a:xfrm>
            <a:off x="2706840" y="1289160"/>
            <a:ext cx="4252680" cy="3078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5" descr=""/>
          <p:cNvPicPr/>
          <p:nvPr/>
        </p:nvPicPr>
        <p:blipFill>
          <a:blip r:embed="rId4"/>
          <a:stretch/>
        </p:blipFill>
        <p:spPr>
          <a:xfrm>
            <a:off x="2689200" y="1630440"/>
            <a:ext cx="4254480" cy="3078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5" descr=""/>
          <p:cNvPicPr/>
          <p:nvPr/>
        </p:nvPicPr>
        <p:blipFill>
          <a:blip r:embed="rId5"/>
          <a:stretch/>
        </p:blipFill>
        <p:spPr>
          <a:xfrm>
            <a:off x="2673360" y="1973160"/>
            <a:ext cx="4253040" cy="3081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5" descr=""/>
          <p:cNvPicPr/>
          <p:nvPr/>
        </p:nvPicPr>
        <p:blipFill>
          <a:blip r:embed="rId6"/>
          <a:stretch/>
        </p:blipFill>
        <p:spPr>
          <a:xfrm>
            <a:off x="2657520" y="2314440"/>
            <a:ext cx="4253040" cy="3081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5" descr=""/>
          <p:cNvPicPr/>
          <p:nvPr/>
        </p:nvPicPr>
        <p:blipFill>
          <a:blip r:embed="rId7"/>
          <a:stretch/>
        </p:blipFill>
        <p:spPr>
          <a:xfrm>
            <a:off x="4175280" y="4667400"/>
            <a:ext cx="273528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423720" y="857160"/>
            <a:ext cx="8296560" cy="57056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2"/>
          <a:stretch/>
        </p:blipFill>
        <p:spPr>
          <a:xfrm>
            <a:off x="5929200" y="785880"/>
            <a:ext cx="3000600" cy="7858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5" descr=""/>
          <p:cNvPicPr/>
          <p:nvPr/>
        </p:nvPicPr>
        <p:blipFill>
          <a:blip r:embed="rId3"/>
          <a:stretch/>
        </p:blipFill>
        <p:spPr>
          <a:xfrm>
            <a:off x="7999560" y="2457360"/>
            <a:ext cx="380880" cy="3081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5" descr=""/>
          <p:cNvPicPr/>
          <p:nvPr/>
        </p:nvPicPr>
        <p:blipFill>
          <a:blip r:embed="rId4"/>
          <a:stretch/>
        </p:blipFill>
        <p:spPr>
          <a:xfrm>
            <a:off x="7981920" y="3462480"/>
            <a:ext cx="380880" cy="3078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" descr=""/>
          <p:cNvPicPr/>
          <p:nvPr/>
        </p:nvPicPr>
        <p:blipFill>
          <a:blip r:embed="rId5"/>
          <a:stretch/>
        </p:blipFill>
        <p:spPr>
          <a:xfrm>
            <a:off x="4654440" y="4784760"/>
            <a:ext cx="381240" cy="3078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5" descr=""/>
          <p:cNvPicPr/>
          <p:nvPr/>
        </p:nvPicPr>
        <p:blipFill>
          <a:blip r:embed="rId6"/>
          <a:stretch/>
        </p:blipFill>
        <p:spPr>
          <a:xfrm>
            <a:off x="4638600" y="5145120"/>
            <a:ext cx="381240" cy="2905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5" descr=""/>
          <p:cNvPicPr/>
          <p:nvPr/>
        </p:nvPicPr>
        <p:blipFill>
          <a:blip r:embed="rId7"/>
          <a:stretch/>
        </p:blipFill>
        <p:spPr>
          <a:xfrm>
            <a:off x="4765680" y="5468760"/>
            <a:ext cx="38088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2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7858080" cy="60753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5" descr=""/>
          <p:cNvPicPr/>
          <p:nvPr/>
        </p:nvPicPr>
        <p:blipFill>
          <a:blip r:embed="rId2"/>
          <a:stretch/>
        </p:blipFill>
        <p:spPr>
          <a:xfrm>
            <a:off x="590400" y="1069920"/>
            <a:ext cx="4849920" cy="3081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5" descr=""/>
          <p:cNvPicPr/>
          <p:nvPr/>
        </p:nvPicPr>
        <p:blipFill>
          <a:blip r:embed="rId3"/>
          <a:stretch/>
        </p:blipFill>
        <p:spPr>
          <a:xfrm>
            <a:off x="574560" y="1397160"/>
            <a:ext cx="4848480" cy="3078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5" descr=""/>
          <p:cNvPicPr/>
          <p:nvPr/>
        </p:nvPicPr>
        <p:blipFill>
          <a:blip r:embed="rId4"/>
          <a:stretch/>
        </p:blipFill>
        <p:spPr>
          <a:xfrm>
            <a:off x="485640" y="1674720"/>
            <a:ext cx="5519880" cy="3081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5" descr=""/>
          <p:cNvPicPr/>
          <p:nvPr/>
        </p:nvPicPr>
        <p:blipFill>
          <a:blip r:embed="rId5"/>
          <a:stretch/>
        </p:blipFill>
        <p:spPr>
          <a:xfrm>
            <a:off x="7526160" y="3041640"/>
            <a:ext cx="381240" cy="3081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5" descr=""/>
          <p:cNvPicPr/>
          <p:nvPr/>
        </p:nvPicPr>
        <p:blipFill>
          <a:blip r:embed="rId6"/>
          <a:stretch/>
        </p:blipFill>
        <p:spPr>
          <a:xfrm>
            <a:off x="7518240" y="4325760"/>
            <a:ext cx="38124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2" descr=""/>
          <p:cNvPicPr/>
          <p:nvPr/>
        </p:nvPicPr>
        <p:blipFill>
          <a:blip r:embed="rId1"/>
          <a:stretch/>
        </p:blipFill>
        <p:spPr>
          <a:xfrm>
            <a:off x="428760" y="1328760"/>
            <a:ext cx="8286480" cy="42004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5" descr=""/>
          <p:cNvPicPr/>
          <p:nvPr/>
        </p:nvPicPr>
        <p:blipFill>
          <a:blip r:embed="rId2"/>
          <a:stretch/>
        </p:blipFill>
        <p:spPr>
          <a:xfrm>
            <a:off x="5051520" y="1650960"/>
            <a:ext cx="380880" cy="3081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5" descr=""/>
          <p:cNvPicPr/>
          <p:nvPr/>
        </p:nvPicPr>
        <p:blipFill>
          <a:blip r:embed="rId3"/>
          <a:stretch/>
        </p:blipFill>
        <p:spPr>
          <a:xfrm>
            <a:off x="727200" y="3994200"/>
            <a:ext cx="3500280" cy="30780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3" descr=""/>
          <p:cNvPicPr/>
          <p:nvPr/>
        </p:nvPicPr>
        <p:blipFill>
          <a:blip r:embed="rId4"/>
          <a:stretch/>
        </p:blipFill>
        <p:spPr>
          <a:xfrm>
            <a:off x="6515280" y="3976560"/>
            <a:ext cx="2199960" cy="15526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5" descr=""/>
          <p:cNvPicPr/>
          <p:nvPr/>
        </p:nvPicPr>
        <p:blipFill>
          <a:blip r:embed="rId5"/>
          <a:stretch/>
        </p:blipFill>
        <p:spPr>
          <a:xfrm>
            <a:off x="693720" y="4352760"/>
            <a:ext cx="350028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Picture 1" descr=""/>
          <p:cNvPicPr/>
          <p:nvPr/>
        </p:nvPicPr>
        <p:blipFill>
          <a:blip r:embed="rId1"/>
          <a:stretch/>
        </p:blipFill>
        <p:spPr>
          <a:xfrm>
            <a:off x="266760" y="824040"/>
            <a:ext cx="8591400" cy="58197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2"/>
          <a:stretch/>
        </p:blipFill>
        <p:spPr>
          <a:xfrm>
            <a:off x="7929720" y="2521080"/>
            <a:ext cx="46512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1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8496360" cy="60390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2"/>
          <a:stretch/>
        </p:blipFill>
        <p:spPr>
          <a:xfrm>
            <a:off x="8004240" y="766800"/>
            <a:ext cx="465120" cy="3967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3"/>
          <a:stretch/>
        </p:blipFill>
        <p:spPr>
          <a:xfrm>
            <a:off x="2857680" y="2643120"/>
            <a:ext cx="1714320" cy="3970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4"/>
          <a:stretch/>
        </p:blipFill>
        <p:spPr>
          <a:xfrm>
            <a:off x="2786040" y="5429160"/>
            <a:ext cx="465120" cy="3970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5"/>
          <a:stretch/>
        </p:blipFill>
        <p:spPr>
          <a:xfrm>
            <a:off x="3571920" y="5908680"/>
            <a:ext cx="157176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Picture 1" descr=""/>
          <p:cNvPicPr/>
          <p:nvPr/>
        </p:nvPicPr>
        <p:blipFill>
          <a:blip r:embed="rId1"/>
          <a:stretch/>
        </p:blipFill>
        <p:spPr>
          <a:xfrm>
            <a:off x="847800" y="985680"/>
            <a:ext cx="7867440" cy="23720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2" descr=""/>
          <p:cNvPicPr/>
          <p:nvPr/>
        </p:nvPicPr>
        <p:blipFill>
          <a:blip r:embed="rId2"/>
          <a:stretch/>
        </p:blipFill>
        <p:spPr>
          <a:xfrm>
            <a:off x="214200" y="4143240"/>
            <a:ext cx="8448840" cy="234324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3"/>
          <a:stretch/>
        </p:blipFill>
        <p:spPr>
          <a:xfrm>
            <a:off x="4286160" y="1000080"/>
            <a:ext cx="465120" cy="3970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4"/>
          <a:stretch/>
        </p:blipFill>
        <p:spPr>
          <a:xfrm>
            <a:off x="6215040" y="1000080"/>
            <a:ext cx="2500200" cy="3970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5"/>
          <a:stretch/>
        </p:blipFill>
        <p:spPr>
          <a:xfrm>
            <a:off x="928800" y="1460520"/>
            <a:ext cx="928440" cy="3967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6"/>
          <a:stretch/>
        </p:blipFill>
        <p:spPr>
          <a:xfrm>
            <a:off x="3286080" y="1930320"/>
            <a:ext cx="928800" cy="3970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7"/>
          <a:stretch/>
        </p:blipFill>
        <p:spPr>
          <a:xfrm>
            <a:off x="1949400" y="2389320"/>
            <a:ext cx="928800" cy="3967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8"/>
          <a:stretch/>
        </p:blipFill>
        <p:spPr>
          <a:xfrm>
            <a:off x="1571760" y="2878200"/>
            <a:ext cx="928440" cy="3967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9"/>
          <a:stretch/>
        </p:blipFill>
        <p:spPr>
          <a:xfrm>
            <a:off x="5357880" y="2857680"/>
            <a:ext cx="92880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6:57:31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